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5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5.png" ContentType="image/png"/>
  <Override PartName="/ppt/media/image12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6.jpeg" ContentType="image/jpeg"/>
  <Override PartName="/ppt/media/image10.png" ContentType="image/png"/>
  <Override PartName="/ppt/media/image4.jpeg" ContentType="image/jpeg"/>
  <Override PartName="/ppt/media/image25.jpeg" ContentType="image/jpeg"/>
  <Override PartName="/ppt/media/image26.png" ContentType="image/png"/>
  <Override PartName="/ppt/media/image14.png" ContentType="image/png"/>
  <Override PartName="/ppt/media/image24.wmf" ContentType="image/x-wmf"/>
  <Override PartName="/ppt/media/image21.gif" ContentType="image/gif"/>
  <Override PartName="/ppt/media/image19.wmf" ContentType="image/x-wmf"/>
  <Override PartName="/ppt/media/image22.png" ContentType="image/png"/>
  <Override PartName="/ppt/media/image17.gif" ContentType="image/gif"/>
  <Override PartName="/ppt/media/image16.wmf" ContentType="image/x-wmf"/>
  <Override PartName="/ppt/media/image1.gif" ContentType="image/gif"/>
  <Override PartName="/ppt/media/image27.png" ContentType="image/png"/>
  <Override PartName="/ppt/media/image3.jpeg" ContentType="image/jpeg"/>
  <Override PartName="/ppt/media/image15.png" ContentType="image/png"/>
  <Override PartName="/ppt/media/image2.wmf" ContentType="image/x-wmf"/>
  <Override PartName="/ppt/media/image2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FE0C9-9DAF-4C55-9F16-102C54D5AC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E4D03-2C9F-469C-BBCD-CC5C2911710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84EDD-4734-46A1-82FD-FD550680CCD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9EA8B-8AB5-43CA-9C5D-0064EE0795B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A7390-D133-426D-AB1B-B377DDEA991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C2B39-D34A-4C3A-87C9-C06C8323B43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47875-74F0-49AF-9B2C-BC59F472453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F1219-8D0C-4702-92C5-0981E2BFA3E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40572-1422-4F76-B73C-557137534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F460F-0C61-4590-8E30-A33830548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2BCE2-6C41-46A4-B6A5-9E9B01E8A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D12B6-8F19-41F0-A360-4049BA25B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B94B2-CE78-4174-ACE3-836B019A2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0ECF1-1551-4753-A77E-55D614A64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97E32-7218-4F0B-97DF-F68240203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C91FD-909D-4000-8FC9-06B385522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C2CC5-D005-44C6-8DE7-E09A99B83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94B3B-37F1-4E92-9754-9BAD6F721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4A4A9-5239-4D9E-84F0-0E7E7B755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F05E1-61C6-48CE-9623-516CC1FEB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3C8D8-41B1-49B5-B387-B435E2650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CF7B1-C046-46CF-AB39-838A4372E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71B2E-EA32-459E-A81B-BD471319B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0B4D5-345C-465C-8E22-94C35D280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69840-779E-46BF-8F8E-2FD292233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47152-99AC-4A35-ADE6-1731D0E75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EEBF7-4A09-43E1-8D46-7C519DD26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06C14-FB3A-4806-A8D8-2F1E5BC55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D3602-2605-4D06-9E02-722919955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7F72F-0B7D-4B12-A57E-F38C78629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41FE8-224A-4226-942F-0834AEEE3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E96BB-85BC-4098-9EC3-E6A110B9F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prstGeom prst="pie">
              <a:avLst/>
            </a:pr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prstGeom prst="pie">
              <a:avLst/>
            </a:pr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50794-B535-4C21-BDAA-8FBBE8B5B5F7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prstGeom prst="pie">
              <a:avLst/>
            </a:pr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prstGeom prst="pie">
              <a:avLst/>
            </a:pr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8FBC0-7EEA-4426-B10E-118F08AFDB84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You Gotta Have Hear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Circulatory Syste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Artery vs. Vei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27" name="Picture 3" descr="artery-vein"/>
          <p:cNvPicPr/>
          <p:nvPr/>
        </p:nvPicPr>
        <p:blipFill>
          <a:blip r:embed="rId1"/>
          <a:stretch/>
        </p:blipFill>
        <p:spPr>
          <a:xfrm>
            <a:off x="1066680" y="1295280"/>
            <a:ext cx="7162920" cy="5372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cc"/>
                </a:solidFill>
                <a:uFillTx/>
                <a:latin typeface="Tahoma"/>
              </a:rPr>
              <a:t>Arteries: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carries blood </a:t>
            </a:r>
            <a:r>
              <a:rPr b="1" lang="en-US" sz="4000" spc="-1" strike="noStrike" u="sng">
                <a:solidFill>
                  <a:srgbClr val="ff3300"/>
                </a:solidFill>
                <a:uFillTx/>
                <a:latin typeface="Tahoma"/>
              </a:rPr>
              <a:t>A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way from heart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arg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ck-walled, Muscula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lastic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xygenated blood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xception Pulmonary Arter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arried under great pressu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eady pulsat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rterio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:  smaller vessels, enter tissu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mosquito-artery-hit"/>
          <p:cNvPicPr/>
          <p:nvPr/>
        </p:nvPicPr>
        <p:blipFill>
          <a:blip r:embed="rId1"/>
          <a:stretch/>
        </p:blipFill>
        <p:spPr>
          <a:xfrm>
            <a:off x="2209680" y="152280"/>
            <a:ext cx="5061240" cy="6629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apillari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mallest vess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icroscopic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alls one cell thic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utrients and gases diffuse he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cc"/>
                </a:solidFill>
                <a:uFillTx/>
                <a:latin typeface="Tahoma"/>
              </a:rPr>
              <a:t>Veins: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Carries blood to heart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114440" y="1828800"/>
            <a:ext cx="5181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70560" indent="-52272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arries blood that contains waste and C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343880" indent="-447840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xception pulmonary vei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970560" indent="-52272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lood not under much pressur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70560" indent="-52272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Valve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to prevent much gravity pul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705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705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Venule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  larger than capillar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5" name="Picture 4" descr="valves%20in%20veins"/>
          <p:cNvPicPr/>
          <p:nvPr/>
        </p:nvPicPr>
        <p:blipFill>
          <a:blip r:embed="rId1"/>
          <a:stretch/>
        </p:blipFill>
        <p:spPr>
          <a:xfrm>
            <a:off x="457200" y="2171880"/>
            <a:ext cx="3606840" cy="4609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Varicose Veins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Damaged Valves in Veins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7" name="Picture 3" descr="spider%20veins"/>
          <p:cNvPicPr/>
          <p:nvPr/>
        </p:nvPicPr>
        <p:blipFill>
          <a:blip r:embed="rId1"/>
          <a:stretch/>
        </p:blipFill>
        <p:spPr>
          <a:xfrm>
            <a:off x="1066680" y="1676520"/>
            <a:ext cx="7220160" cy="51051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irculatory System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LOOD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What is Blood?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lood Simul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The Blood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80520" y="2209320"/>
            <a:ext cx="403884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ody contains 4-6 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sists of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at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d Blood Cell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lasm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hite blood cells and platele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4" name="Picture 4" descr="blood"/>
          <p:cNvPicPr/>
          <p:nvPr/>
        </p:nvPicPr>
        <p:blipFill>
          <a:blip r:embed="rId1"/>
          <a:stretch/>
        </p:blipFill>
        <p:spPr>
          <a:xfrm>
            <a:off x="4724280" y="2057400"/>
            <a:ext cx="3886200" cy="4419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2" descr="bio_ch37_4078"/>
          <p:cNvPicPr/>
          <p:nvPr/>
        </p:nvPicPr>
        <p:blipFill>
          <a:blip r:embed="rId1"/>
          <a:stretch/>
        </p:blipFill>
        <p:spPr>
          <a:xfrm>
            <a:off x="907920" y="1790640"/>
            <a:ext cx="6837480" cy="291780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4"/>
          <p:cNvSpPr/>
          <p:nvPr/>
        </p:nvSpPr>
        <p:spPr>
          <a:xfrm>
            <a:off x="431640" y="4859280"/>
            <a:ext cx="217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hole Blood Samp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5"/>
          <p:cNvSpPr/>
          <p:nvPr/>
        </p:nvSpPr>
        <p:spPr>
          <a:xfrm>
            <a:off x="7670880" y="4110120"/>
            <a:ext cx="121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d blood cell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6"/>
          <p:cNvSpPr/>
          <p:nvPr/>
        </p:nvSpPr>
        <p:spPr>
          <a:xfrm>
            <a:off x="7658280" y="3589200"/>
            <a:ext cx="121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ite blood cell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7"/>
          <p:cNvSpPr/>
          <p:nvPr/>
        </p:nvSpPr>
        <p:spPr>
          <a:xfrm>
            <a:off x="7238880" y="3233880"/>
            <a:ext cx="121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latele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8"/>
          <p:cNvSpPr/>
          <p:nvPr/>
        </p:nvSpPr>
        <p:spPr>
          <a:xfrm>
            <a:off x="7188120" y="2776680"/>
            <a:ext cx="121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lasm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Text Box 9"/>
          <p:cNvSpPr/>
          <p:nvPr/>
        </p:nvSpPr>
        <p:spPr>
          <a:xfrm>
            <a:off x="3098880" y="4859280"/>
            <a:ext cx="269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ample Placed in Centrifu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10"/>
          <p:cNvSpPr/>
          <p:nvPr/>
        </p:nvSpPr>
        <p:spPr>
          <a:xfrm>
            <a:off x="6426360" y="4859280"/>
            <a:ext cx="1809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lood Sample That Has Been Centrifug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Freeform 11"/>
          <p:cNvSpPr/>
          <p:nvPr/>
        </p:nvSpPr>
        <p:spPr>
          <a:xfrm>
            <a:off x="2120760" y="1386000"/>
            <a:ext cx="4356360" cy="4367160"/>
          </a:xfrm>
          <a:prstGeom prst="pie">
            <a:avLst/>
          </a:prstGeom>
          <a:solidFill>
            <a:srgbClr val="72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Freeform 12"/>
          <p:cNvSpPr/>
          <p:nvPr/>
        </p:nvSpPr>
        <p:spPr>
          <a:xfrm>
            <a:off x="5830920" y="1468440"/>
            <a:ext cx="3206880" cy="4048200"/>
          </a:xfrm>
          <a:prstGeom prst="pie">
            <a:avLst/>
          </a:prstGeom>
          <a:solidFill>
            <a:srgbClr val="72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Engag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9144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alt Disney’s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Hemo the Magnific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cene 3 – The Hea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cene 4 – Lubb-Dubb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2" descr="bio_ch37_4078"/>
          <p:cNvPicPr/>
          <p:nvPr/>
        </p:nvPicPr>
        <p:blipFill>
          <a:blip r:embed="rId1"/>
          <a:stretch/>
        </p:blipFill>
        <p:spPr>
          <a:xfrm>
            <a:off x="907920" y="1790640"/>
            <a:ext cx="6837480" cy="291780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4"/>
          <p:cNvSpPr/>
          <p:nvPr/>
        </p:nvSpPr>
        <p:spPr>
          <a:xfrm>
            <a:off x="431640" y="4859280"/>
            <a:ext cx="217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hole Blood Samp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5"/>
          <p:cNvSpPr/>
          <p:nvPr/>
        </p:nvSpPr>
        <p:spPr>
          <a:xfrm>
            <a:off x="7670880" y="4110120"/>
            <a:ext cx="121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d blood cell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6"/>
          <p:cNvSpPr/>
          <p:nvPr/>
        </p:nvSpPr>
        <p:spPr>
          <a:xfrm>
            <a:off x="7658280" y="3589200"/>
            <a:ext cx="121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ite blood cell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Text Box 7"/>
          <p:cNvSpPr/>
          <p:nvPr/>
        </p:nvSpPr>
        <p:spPr>
          <a:xfrm>
            <a:off x="7238880" y="3233880"/>
            <a:ext cx="121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latele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8"/>
          <p:cNvSpPr/>
          <p:nvPr/>
        </p:nvSpPr>
        <p:spPr>
          <a:xfrm>
            <a:off x="7188120" y="2776680"/>
            <a:ext cx="121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lasm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Text Box 9"/>
          <p:cNvSpPr/>
          <p:nvPr/>
        </p:nvSpPr>
        <p:spPr>
          <a:xfrm>
            <a:off x="3098880" y="4859280"/>
            <a:ext cx="269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ample Placed in Centrifu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Text Box 10"/>
          <p:cNvSpPr/>
          <p:nvPr/>
        </p:nvSpPr>
        <p:spPr>
          <a:xfrm>
            <a:off x="6426360" y="4859280"/>
            <a:ext cx="1809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lood Sample That Has Been Centrifug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Freeform 11"/>
          <p:cNvSpPr/>
          <p:nvPr/>
        </p:nvSpPr>
        <p:spPr>
          <a:xfrm>
            <a:off x="5830920" y="1468440"/>
            <a:ext cx="3206880" cy="4048200"/>
          </a:xfrm>
          <a:prstGeom prst="pie">
            <a:avLst/>
          </a:prstGeom>
          <a:solidFill>
            <a:srgbClr val="72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2" descr="bio_ch37_4078"/>
          <p:cNvPicPr/>
          <p:nvPr/>
        </p:nvPicPr>
        <p:blipFill>
          <a:blip r:embed="rId1"/>
          <a:stretch/>
        </p:blipFill>
        <p:spPr>
          <a:xfrm>
            <a:off x="907920" y="1790640"/>
            <a:ext cx="6837480" cy="291780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4"/>
          <p:cNvSpPr/>
          <p:nvPr/>
        </p:nvSpPr>
        <p:spPr>
          <a:xfrm>
            <a:off x="431640" y="4859280"/>
            <a:ext cx="217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hole Blood Samp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Text Box 5"/>
          <p:cNvSpPr/>
          <p:nvPr/>
        </p:nvSpPr>
        <p:spPr>
          <a:xfrm>
            <a:off x="7670880" y="4110120"/>
            <a:ext cx="121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d blood cell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Text Box 6"/>
          <p:cNvSpPr/>
          <p:nvPr/>
        </p:nvSpPr>
        <p:spPr>
          <a:xfrm>
            <a:off x="7658280" y="3589200"/>
            <a:ext cx="121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ite blood cell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Text Box 7"/>
          <p:cNvSpPr/>
          <p:nvPr/>
        </p:nvSpPr>
        <p:spPr>
          <a:xfrm>
            <a:off x="7238880" y="3233880"/>
            <a:ext cx="121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latele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 Box 8"/>
          <p:cNvSpPr/>
          <p:nvPr/>
        </p:nvSpPr>
        <p:spPr>
          <a:xfrm>
            <a:off x="7188120" y="2776680"/>
            <a:ext cx="121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lasm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Text Box 9"/>
          <p:cNvSpPr/>
          <p:nvPr/>
        </p:nvSpPr>
        <p:spPr>
          <a:xfrm>
            <a:off x="3098880" y="4859280"/>
            <a:ext cx="269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ample Placed in Centrifu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 Box 10"/>
          <p:cNvSpPr/>
          <p:nvPr/>
        </p:nvSpPr>
        <p:spPr>
          <a:xfrm>
            <a:off x="6426360" y="4859280"/>
            <a:ext cx="1809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lood Sample That Has Been Centrifug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Parts of the Blood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73" name="Picture 3" descr="blood"/>
          <p:cNvPicPr/>
          <p:nvPr/>
        </p:nvPicPr>
        <p:blipFill>
          <a:blip r:embed="rId1"/>
          <a:stretch/>
        </p:blipFill>
        <p:spPr>
          <a:xfrm>
            <a:off x="2057400" y="1219320"/>
            <a:ext cx="5037120" cy="55911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Your Blood:  Fluid Transpor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914400" y="3200400"/>
            <a:ext cx="32767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 Tissu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50%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wat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4% dissolved substanc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733920" y="2133360"/>
            <a:ext cx="54100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Liquid Portion Carries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Blood cell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rythrocytes (RBC - red blood cell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Leucocytes (WBC - white blood cells)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latelets (non cellular particle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rotein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nzymes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ormones – Endocrine System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Nutrients - Digestive System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Gases - Respiratory System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norganic salt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Object 2" descr=""/>
          <p:cNvPicPr/>
          <p:nvPr/>
        </p:nvPicPr>
        <p:blipFill>
          <a:blip r:embed="rId1"/>
          <a:stretch/>
        </p:blipFill>
        <p:spPr>
          <a:xfrm>
            <a:off x="2362320" y="1905120"/>
            <a:ext cx="5715000" cy="395280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Oxygen in the Blood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9" name="Rectangle 4"/>
          <p:cNvSpPr/>
          <p:nvPr/>
        </p:nvSpPr>
        <p:spPr>
          <a:xfrm>
            <a:off x="2209680" y="1828800"/>
            <a:ext cx="2438640" cy="4495680"/>
          </a:xfrm>
          <a:prstGeom prst="rect">
            <a:avLst/>
          </a:prstGeom>
          <a:solidFill>
            <a:srgbClr val="72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51920" y="1752120"/>
            <a:ext cx="403884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emoglobin, iron containing molecu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oosely picks up oxygen in the lung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oses oxygen in areas low in oxygen (diffuse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arbon Dioxide in the Blood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371600" y="2057400"/>
            <a:ext cx="6324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emoglobin carries C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als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ahoma"/>
              </a:rPr>
              <a:t>2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s a waste product of cellular wor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70% of C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ahoma"/>
              </a:rPr>
              <a:t>2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mbines with water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rest travels to the lung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What does blood contain?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057040" y="2209320"/>
            <a:ext cx="56386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50% Wat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45% Erythrocyt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4% Plasma with Substanc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% Leukocytes + Platele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Erythrocytes (RBC)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50292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ransporters of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Oxyg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arbon Dioxid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BC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Lack a nucleu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ontain hemoglobi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isk-shape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BC are produced in red bone marrow of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ribs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humerus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emur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ternum, and other long bon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ives for 120 day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ld RBC are destroyed in liver and spl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7" name="Picture 4" descr="09009jwa"/>
          <p:cNvPicPr/>
          <p:nvPr/>
        </p:nvPicPr>
        <p:blipFill>
          <a:blip r:embed="rId1"/>
          <a:stretch/>
        </p:blipFill>
        <p:spPr>
          <a:xfrm>
            <a:off x="5334120" y="1828800"/>
            <a:ext cx="3581280" cy="4419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Leukocytes (WBC)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76320" y="20574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-59112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BC fight infec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60840" indent="-5173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ttack foreign substanc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ess abunda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arge cell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ome live for month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60840" indent="-5173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ost just a few day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veral typ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LL contain nucle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91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0" name="Picture 4" descr="figure11c"/>
          <p:cNvPicPr/>
          <p:nvPr/>
        </p:nvPicPr>
        <p:blipFill>
          <a:blip r:embed="rId1"/>
          <a:stretch/>
        </p:blipFill>
        <p:spPr>
          <a:xfrm>
            <a:off x="4038480" y="2143080"/>
            <a:ext cx="5105520" cy="4105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Platelet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086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LATELETS are for CLOTTING bloo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ell fragmen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duced in bone marrow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hort life span (1 week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brin (sticky network of protein fiber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rm a web trapping blood cell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Explor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33520" y="22093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ow does exercise affect heart rate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irculatory System Rela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lor Your He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bio_ch37_4080"/>
          <p:cNvPicPr/>
          <p:nvPr/>
        </p:nvPicPr>
        <p:blipFill>
          <a:blip r:embed="rId1"/>
          <a:stretch/>
        </p:blipFill>
        <p:spPr>
          <a:xfrm>
            <a:off x="766800" y="1801800"/>
            <a:ext cx="7381800" cy="216216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3"/>
          <p:cNvSpPr/>
          <p:nvPr/>
        </p:nvSpPr>
        <p:spPr>
          <a:xfrm>
            <a:off x="533520" y="304920"/>
            <a:ext cx="51051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Blood Clot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Text Box 4"/>
          <p:cNvSpPr/>
          <p:nvPr/>
        </p:nvSpPr>
        <p:spPr>
          <a:xfrm>
            <a:off x="622440" y="4033800"/>
            <a:ext cx="2038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reak in Capillary Wal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lood vessels injured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Text Box 5"/>
          <p:cNvSpPr/>
          <p:nvPr/>
        </p:nvSpPr>
        <p:spPr>
          <a:xfrm>
            <a:off x="3530520" y="4033800"/>
            <a:ext cx="21528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lumping of Platele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latelets clump at the site and release thromboplastin. Thromboplastin converts prothrombin into thrombin.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6"/>
          <p:cNvSpPr/>
          <p:nvPr/>
        </p:nvSpPr>
        <p:spPr>
          <a:xfrm>
            <a:off x="6388200" y="4033800"/>
            <a:ext cx="2127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lot Form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rombin converts fibrinogen into fibrin, which causes a clot. The clot prevents further loss of blood.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irculatory System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HEAR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2" descr="Heart1"/>
          <p:cNvPicPr/>
          <p:nvPr/>
        </p:nvPicPr>
        <p:blipFill>
          <a:blip r:embed="rId1"/>
          <a:stretch/>
        </p:blipFill>
        <p:spPr>
          <a:xfrm>
            <a:off x="2819520" y="174600"/>
            <a:ext cx="4379760" cy="668340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3" descr=""/>
          <p:cNvPicPr/>
          <p:nvPr/>
        </p:nvPicPr>
        <p:blipFill>
          <a:blip r:embed="rId2"/>
          <a:stretch/>
        </p:blipFill>
        <p:spPr>
          <a:xfrm>
            <a:off x="533520" y="4572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1633" fill="hold"/>
                                        <p:tgtEl>
                                          <p:spTgt spid="2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Your Heart:  The Vital Pump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40384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t REST, the heart pumps about 5 QUARTS of blood a minut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uring EXTREME EXERTION (exercise) it can pump 40 quarts a minut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4" name="Picture 4" descr="j0299873"/>
          <p:cNvPicPr/>
          <p:nvPr/>
        </p:nvPicPr>
        <p:blipFill>
          <a:blip r:embed="rId1"/>
          <a:stretch/>
        </p:blipFill>
        <p:spPr>
          <a:xfrm>
            <a:off x="5867280" y="2770200"/>
            <a:ext cx="2179800" cy="2487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Heart: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Structure and Function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286000"/>
            <a:ext cx="40388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eeps blood mov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arge organ composed of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ardiac muscle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ich in mitochondri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nclosed by a sac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ERICARDIUM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7" name="Picture 5" descr=""/>
          <p:cNvPicPr/>
          <p:nvPr/>
        </p:nvPicPr>
        <p:blipFill>
          <a:blip r:embed="rId1"/>
          <a:stretch/>
        </p:blipFill>
        <p:spPr>
          <a:xfrm>
            <a:off x="5486400" y="3808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7" descr="j0283182"/>
          <p:cNvPicPr/>
          <p:nvPr/>
        </p:nvPicPr>
        <p:blipFill>
          <a:blip r:embed="rId2"/>
          <a:stretch/>
        </p:blipFill>
        <p:spPr>
          <a:xfrm>
            <a:off x="5486400" y="2743200"/>
            <a:ext cx="2505240" cy="2357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4808" fill="hold"/>
                                        <p:tgtEl>
                                          <p:spTgt spid="2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2" descr="bio_ch37_4074"/>
          <p:cNvPicPr/>
          <p:nvPr/>
        </p:nvPicPr>
        <p:blipFill>
          <a:blip r:embed="rId1"/>
          <a:stretch/>
        </p:blipFill>
        <p:spPr>
          <a:xfrm>
            <a:off x="2470320" y="1047600"/>
            <a:ext cx="5713200" cy="4629240"/>
          </a:xfrm>
          <a:prstGeom prst="rect">
            <a:avLst/>
          </a:prstGeom>
          <a:ln w="0">
            <a:noFill/>
          </a:ln>
        </p:spPr>
      </p:pic>
      <p:sp>
        <p:nvSpPr>
          <p:cNvPr id="210" name="Text Box 3"/>
          <p:cNvSpPr/>
          <p:nvPr/>
        </p:nvSpPr>
        <p:spPr>
          <a:xfrm>
            <a:off x="228600" y="231840"/>
            <a:ext cx="83440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e Structures of the Hea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Text Box 4"/>
          <p:cNvSpPr/>
          <p:nvPr/>
        </p:nvSpPr>
        <p:spPr>
          <a:xfrm>
            <a:off x="3083040" y="5608800"/>
            <a:ext cx="142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ght Ventric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Text Box 5"/>
          <p:cNvSpPr/>
          <p:nvPr/>
        </p:nvSpPr>
        <p:spPr>
          <a:xfrm>
            <a:off x="1914480" y="4173480"/>
            <a:ext cx="1428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ght Atr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Text Box 6"/>
          <p:cNvSpPr/>
          <p:nvPr/>
        </p:nvSpPr>
        <p:spPr>
          <a:xfrm>
            <a:off x="5445000" y="3030480"/>
            <a:ext cx="1543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Left Atr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4" name="Group 7"/>
          <p:cNvGrpSpPr/>
          <p:nvPr/>
        </p:nvGrpSpPr>
        <p:grpSpPr>
          <a:xfrm>
            <a:off x="466560" y="1544760"/>
            <a:ext cx="7499520" cy="4494240"/>
            <a:chOff x="466560" y="1544760"/>
            <a:chExt cx="7499520" cy="4494240"/>
          </a:xfrm>
        </p:grpSpPr>
        <p:sp>
          <p:nvSpPr>
            <p:cNvPr id="215" name="Text Box 8"/>
            <p:cNvSpPr/>
            <p:nvPr/>
          </p:nvSpPr>
          <p:spPr>
            <a:xfrm>
              <a:off x="774720" y="5214960"/>
              <a:ext cx="22669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Inferior Vena Cava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Vein that brings oxygen-poor blood from the lower part of the body to the right atrium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Text Box 9"/>
            <p:cNvSpPr/>
            <p:nvPr/>
          </p:nvSpPr>
          <p:spPr>
            <a:xfrm>
              <a:off x="466560" y="4325760"/>
              <a:ext cx="2368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Tricuspid Valv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Prevents blood from flowing back into the right atrium after it has entered the right ventricl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Text Box 10"/>
            <p:cNvSpPr/>
            <p:nvPr/>
          </p:nvSpPr>
          <p:spPr>
            <a:xfrm>
              <a:off x="685800" y="3220920"/>
              <a:ext cx="227952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ulmonary Valv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Prevents blood from flowing back into the right ventricle after it has entered the pulmonary artery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Text Box 11"/>
            <p:cNvSpPr/>
            <p:nvPr/>
          </p:nvSpPr>
          <p:spPr>
            <a:xfrm>
              <a:off x="492120" y="2471760"/>
              <a:ext cx="25081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ulmonary Vein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Bring oxygen-rich blood from each of the lungs to the left atrium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Text Box 12"/>
            <p:cNvSpPr/>
            <p:nvPr/>
          </p:nvSpPr>
          <p:spPr>
            <a:xfrm>
              <a:off x="542880" y="1646280"/>
              <a:ext cx="35496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Superior Vena Cava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Large vein that brings oxygen-poor blood from the upper part of the body to the right atrium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Text Box 13"/>
            <p:cNvSpPr/>
            <p:nvPr/>
          </p:nvSpPr>
          <p:spPr>
            <a:xfrm>
              <a:off x="4124160" y="1544760"/>
              <a:ext cx="273708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orta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Brings oxygen-rich blood from the left ventricle to the rest of the body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Text Box 14"/>
            <p:cNvSpPr/>
            <p:nvPr/>
          </p:nvSpPr>
          <p:spPr>
            <a:xfrm>
              <a:off x="5051520" y="2357280"/>
              <a:ext cx="186048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ulmonary Arterie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Bring oxygen-poor blood to the lung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Text Box 15"/>
            <p:cNvSpPr/>
            <p:nvPr/>
          </p:nvSpPr>
          <p:spPr>
            <a:xfrm>
              <a:off x="5407200" y="3348000"/>
              <a:ext cx="22032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ortic Valv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Prevents blood from flowing back into the left ventricle after it has entered the aorta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Text Box 16"/>
            <p:cNvSpPr/>
            <p:nvPr/>
          </p:nvSpPr>
          <p:spPr>
            <a:xfrm>
              <a:off x="5483160" y="4211640"/>
              <a:ext cx="24829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Mitral Valv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Prevents blood from flowing back into the left atrium after it has entered the left ventricl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4" name="Text Box 17"/>
          <p:cNvSpPr/>
          <p:nvPr/>
        </p:nvSpPr>
        <p:spPr>
          <a:xfrm>
            <a:off x="5432400" y="5024520"/>
            <a:ext cx="170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Left Ventric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 Box 18"/>
          <p:cNvSpPr/>
          <p:nvPr/>
        </p:nvSpPr>
        <p:spPr>
          <a:xfrm>
            <a:off x="5533920" y="5405400"/>
            <a:ext cx="108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pt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Structure of Heart (cont)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403884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ur chamber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wo upper (Atria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-223920">
              <a:spcBef>
                <a:spcPts val="700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alls thinn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-223920">
              <a:spcBef>
                <a:spcPts val="700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ess muscula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wo lower (Ventricle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-223920">
              <a:spcBef>
                <a:spcPts val="700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alls thick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-223920">
              <a:spcBef>
                <a:spcPts val="700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re muscula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-223920">
              <a:spcBef>
                <a:spcPts val="700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o more wor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8" name="Picture 10" descr="j0335880"/>
          <p:cNvPicPr/>
          <p:nvPr/>
        </p:nvPicPr>
        <p:blipFill>
          <a:blip r:embed="rId1"/>
          <a:stretch/>
        </p:blipFill>
        <p:spPr>
          <a:xfrm>
            <a:off x="5041800" y="2374920"/>
            <a:ext cx="3340080" cy="3492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2" descr="Heart2"/>
          <p:cNvPicPr/>
          <p:nvPr/>
        </p:nvPicPr>
        <p:blipFill>
          <a:blip r:embed="rId1"/>
          <a:stretch/>
        </p:blipFill>
        <p:spPr>
          <a:xfrm>
            <a:off x="2763720" y="152280"/>
            <a:ext cx="4343400" cy="6629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Blood Flow Through the Hear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2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©COPY 1997 HeartPoin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2" name="Picture 5" descr="theheartwhole"/>
          <p:cNvPicPr/>
          <p:nvPr/>
        </p:nvPicPr>
        <p:blipFill>
          <a:blip r:embed="rId1"/>
          <a:stretch/>
        </p:blipFill>
        <p:spPr>
          <a:xfrm>
            <a:off x="1295280" y="2008080"/>
            <a:ext cx="6696360" cy="4392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Bloods Path Through the Hear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09480" y="19047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oth Atria fill at same tim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t atrium receives oxygen POOR blood from body from vena cav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eft atrium receives oxygen RICH blood from lungs through four pulmonary vei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fter filled with blood atria contract, pushing blood into ventric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Hemo the Magnificen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05120" y="1981080"/>
            <a:ext cx="624816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cene 6 – The Capillar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Both ventricles contrac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Right ventricle contracts and pushes oxygen-poor blood toward lungs,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gainst gravity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rough pulmonary arteri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51055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457200" y="243828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eft ventricle contracts and forces oxygen rich blood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ut of heart through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orta (largest vessel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Bloods Path Through the Heart (cont)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transition>
    <p:fad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Hemo the Magnificen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2438280" y="22093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cene 7 – Gatekeep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Control of the Heart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(Nervous System)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762120" y="22860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edulla oblongata regulates rat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nsory cells stretch when too fas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essure drops when beat is too low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Heartbeat Regula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rce of blood from left ventricle into arteries (pulse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acemaker (SA Node), group of cells at top of right atriu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lectrical impulse, signals BOTH atria to contrac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riggers 2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et of cells (AV Node)-base of the right atrium to send message to ventricles, they contrac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kG – record of electrical changes in the hear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2" descr="bio_ch37_6152"/>
          <p:cNvPicPr/>
          <p:nvPr/>
        </p:nvPicPr>
        <p:blipFill>
          <a:blip r:embed="rId1"/>
          <a:stretch/>
        </p:blipFill>
        <p:spPr>
          <a:xfrm>
            <a:off x="685800" y="1295280"/>
            <a:ext cx="8373960" cy="5105520"/>
          </a:xfrm>
          <a:prstGeom prst="rect">
            <a:avLst/>
          </a:prstGeom>
          <a:ln w="0">
            <a:noFill/>
          </a:ln>
        </p:spPr>
      </p:pic>
      <p:sp>
        <p:nvSpPr>
          <p:cNvPr id="247" name="Text Box 3"/>
          <p:cNvSpPr/>
          <p:nvPr/>
        </p:nvSpPr>
        <p:spPr>
          <a:xfrm>
            <a:off x="-76320" y="2743200"/>
            <a:ext cx="920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oatrial (SA) nod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Text Box 4"/>
          <p:cNvSpPr/>
          <p:nvPr/>
        </p:nvSpPr>
        <p:spPr>
          <a:xfrm>
            <a:off x="-57240" y="4191120"/>
            <a:ext cx="1428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rioventricular (AV) nod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Text Box 5"/>
          <p:cNvSpPr/>
          <p:nvPr/>
        </p:nvSpPr>
        <p:spPr>
          <a:xfrm>
            <a:off x="3803760" y="3267000"/>
            <a:ext cx="1073160" cy="459000"/>
          </a:xfrm>
          <a:prstGeom prst="rect">
            <a:avLst/>
          </a:prstGeom>
          <a:noFill/>
          <a:ln w="9360">
            <a:solidFill>
              <a:srgbClr val="72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ducting fib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Text Box 6"/>
          <p:cNvSpPr/>
          <p:nvPr/>
        </p:nvSpPr>
        <p:spPr>
          <a:xfrm>
            <a:off x="990720" y="838080"/>
            <a:ext cx="2863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ion of Atri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Text Box 7"/>
          <p:cNvSpPr/>
          <p:nvPr/>
        </p:nvSpPr>
        <p:spPr>
          <a:xfrm>
            <a:off x="5867280" y="914400"/>
            <a:ext cx="2863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ion of Ventricl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Text Box 8"/>
          <p:cNvSpPr/>
          <p:nvPr/>
        </p:nvSpPr>
        <p:spPr>
          <a:xfrm>
            <a:off x="2590920" y="231840"/>
            <a:ext cx="51051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e Sinoatrial No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Picture 2" descr="heart1"/>
          <p:cNvPicPr/>
          <p:nvPr/>
        </p:nvPicPr>
        <p:blipFill>
          <a:blip r:embed="rId1"/>
          <a:stretch/>
        </p:blipFill>
        <p:spPr>
          <a:xfrm>
            <a:off x="1828800" y="380880"/>
            <a:ext cx="5867280" cy="63248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Blood Pressur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lood against the blood vessel’s wal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systolic pressure refers t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pressure recorded while the ventricles pump the blood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diastolic pressure refers to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pressure recorded as the ventricles fill with blood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normal blood pressure is 120/8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DISORDER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THEROSCLEROSI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atty deposits called plaqu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uilds up in walls of arteri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bstructs flo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lso a risk if clot breaks free and blocks flow elsewhe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Disorders (cont)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ypertens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igh blood pressu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earts works harder than necessa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creases risk of heart attack or strok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Circulatory System Consists of…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	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3526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Blood Vessel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Blood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Hear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Picture 4" descr="j0236214"/>
          <p:cNvPicPr/>
          <p:nvPr/>
        </p:nvPicPr>
        <p:blipFill>
          <a:blip r:embed="rId1"/>
          <a:stretch/>
        </p:blipFill>
        <p:spPr>
          <a:xfrm>
            <a:off x="2971800" y="2590920"/>
            <a:ext cx="1981080" cy="18651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8" descr="j0286850"/>
          <p:cNvPicPr/>
          <p:nvPr/>
        </p:nvPicPr>
        <p:blipFill>
          <a:blip r:embed="rId2"/>
          <a:stretch/>
        </p:blipFill>
        <p:spPr>
          <a:xfrm>
            <a:off x="5715000" y="1066680"/>
            <a:ext cx="2633760" cy="2473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Disorders (cont)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09480" y="21337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eart Attac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therosclerosis in coronary arte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eart muscle begins to d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ymptom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Nause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hortness of breath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re chest pai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MMEDIATE MEDICAL ATTENTION NECESSAR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Disorders (cont)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rok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lood clot gets stuck in blood vessels leading to brai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rain cells die due to lack of oxyg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r blood vessel bur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an lead to paralysis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oss of ability to speak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eat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Current PREVENTION Recommendations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762120" y="2209320"/>
            <a:ext cx="40384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gular exercis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eight contro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ell balanced die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o not smok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et low in saturated fa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66" name="Picture 4" descr="j0289001"/>
          <p:cNvPicPr/>
          <p:nvPr/>
        </p:nvPicPr>
        <p:blipFill>
          <a:blip r:embed="rId1"/>
          <a:stretch/>
        </p:blipFill>
        <p:spPr>
          <a:xfrm>
            <a:off x="5923080" y="1981080"/>
            <a:ext cx="2611440" cy="3581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Elabora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76320" y="2362320"/>
            <a:ext cx="9144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Blood Typing:  To Clump or Not to Clump?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Blood Typ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2286000"/>
            <a:ext cx="8381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ssive loss of blood requires a transfus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 Typ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B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herited from your paren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Blood Typ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272" name="Picture 3" descr="b_bloodtypes_01"/>
          <p:cNvPicPr/>
          <p:nvPr/>
        </p:nvPicPr>
        <p:blipFill>
          <a:blip r:embed="rId1"/>
          <a:stretch/>
        </p:blipFill>
        <p:spPr>
          <a:xfrm>
            <a:off x="2362320" y="2097000"/>
            <a:ext cx="4800600" cy="4380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What happens when you mix blood types?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69343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Plasma contains proteins that correspond to the shape of the different antigen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If you mix one type with the wrong one, you get CLUMPING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ype O is the universal donor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ype AB is the universal accept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What Makes Our Blood Type?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276" name="Picture 3" descr="ABObloodsystem"/>
          <p:cNvPicPr/>
          <p:nvPr/>
        </p:nvPicPr>
        <p:blipFill>
          <a:blip r:embed="rId1"/>
          <a:stretch/>
        </p:blipFill>
        <p:spPr>
          <a:xfrm>
            <a:off x="1066680" y="1647720"/>
            <a:ext cx="7239240" cy="4219560"/>
          </a:xfrm>
          <a:prstGeom prst="rect">
            <a:avLst/>
          </a:prstGeom>
          <a:ln w="0">
            <a:noFill/>
          </a:ln>
        </p:spPr>
      </p:pic>
      <p:sp>
        <p:nvSpPr>
          <p:cNvPr id="277" name="Rectangle 4"/>
          <p:cNvSpPr/>
          <p:nvPr/>
        </p:nvSpPr>
        <p:spPr>
          <a:xfrm>
            <a:off x="914400" y="4038480"/>
            <a:ext cx="7543800" cy="1828800"/>
          </a:xfrm>
          <a:prstGeom prst="rect">
            <a:avLst/>
          </a:prstGeom>
          <a:solidFill>
            <a:srgbClr val="72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Picture 2" descr="bio_ch37_6177"/>
          <p:cNvPicPr/>
          <p:nvPr/>
        </p:nvPicPr>
        <p:blipFill>
          <a:blip r:embed="rId1"/>
          <a:stretch/>
        </p:blipFill>
        <p:spPr>
          <a:xfrm>
            <a:off x="1219320" y="1828800"/>
            <a:ext cx="7018200" cy="3440160"/>
          </a:xfrm>
          <a:prstGeom prst="rect">
            <a:avLst/>
          </a:prstGeom>
          <a:ln w="9360">
            <a:solidFill>
              <a:srgbClr val="333300"/>
            </a:solidFill>
            <a:miter/>
          </a:ln>
        </p:spPr>
      </p:pic>
      <p:sp>
        <p:nvSpPr>
          <p:cNvPr id="279" name="Text Box 3"/>
          <p:cNvSpPr/>
          <p:nvPr/>
        </p:nvSpPr>
        <p:spPr>
          <a:xfrm>
            <a:off x="1546200" y="1941480"/>
            <a:ext cx="153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lood Type of Don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Text Box 4"/>
          <p:cNvSpPr/>
          <p:nvPr/>
        </p:nvSpPr>
        <p:spPr>
          <a:xfrm>
            <a:off x="2079720" y="2881440"/>
            <a:ext cx="679320" cy="1915920"/>
          </a:xfrm>
          <a:prstGeom prst="rect">
            <a:avLst/>
          </a:prstGeom>
          <a:noFill/>
          <a:ln w="9360">
            <a:solidFill>
              <a:srgbClr val="72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0000"/>
                </a:solidFill>
                <a:latin typeface="Arial"/>
              </a:rPr>
              <a:t>A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Text Box 5"/>
          <p:cNvSpPr/>
          <p:nvPr/>
        </p:nvSpPr>
        <p:spPr>
          <a:xfrm>
            <a:off x="4289400" y="1903320"/>
            <a:ext cx="343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lood Type of Recipi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Text Box 6"/>
          <p:cNvSpPr/>
          <p:nvPr/>
        </p:nvSpPr>
        <p:spPr>
          <a:xfrm>
            <a:off x="3807000" y="2360520"/>
            <a:ext cx="408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                B               AB             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Text Box 7"/>
          <p:cNvSpPr/>
          <p:nvPr/>
        </p:nvSpPr>
        <p:spPr>
          <a:xfrm>
            <a:off x="1898640" y="4957920"/>
            <a:ext cx="313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0000"/>
                </a:solidFill>
                <a:latin typeface="Arial"/>
              </a:rPr>
              <a:t>Unsuccessful transfus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Text Box 8"/>
          <p:cNvSpPr/>
          <p:nvPr/>
        </p:nvSpPr>
        <p:spPr>
          <a:xfrm>
            <a:off x="5762520" y="4976640"/>
            <a:ext cx="313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0000"/>
                </a:solidFill>
                <a:latin typeface="Arial"/>
              </a:rPr>
              <a:t>Successful transfus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Text Box 9"/>
          <p:cNvSpPr/>
          <p:nvPr/>
        </p:nvSpPr>
        <p:spPr>
          <a:xfrm>
            <a:off x="2590920" y="231840"/>
            <a:ext cx="51051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0000"/>
                </a:solidFill>
                <a:latin typeface="Arial Black"/>
              </a:rPr>
              <a:t>Blood Transfus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Rh Factor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hesus factor (Rh), also inherit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h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</a:rPr>
              <a:t>+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(have antigen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h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</a:rPr>
              <a:t>-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(NO antigen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n cause complications in pregnanc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ther Rh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</a:rPr>
              <a:t>-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1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</a:rPr>
              <a:t>s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baby Rh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</a:rPr>
              <a:t>+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:  blood mixes with mother; mother’s body makes anti-Rh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</a:rPr>
              <a:t>+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antibodi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Rh 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</a:rPr>
              <a:t>+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body attacks bab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w have medicine to prevent antibody form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irculatory System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LOOD VESSEL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Two Pathway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ulmonary Circul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arries blood to lungs and bac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ystemic Circul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arries blood to body and bac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3" name="Picture 4" descr="bio_ch37_4072"/>
          <p:cNvPicPr/>
          <p:nvPr/>
        </p:nvPicPr>
        <p:blipFill>
          <a:blip r:embed="rId1"/>
          <a:stretch/>
        </p:blipFill>
        <p:spPr>
          <a:xfrm>
            <a:off x="2311560" y="263520"/>
            <a:ext cx="4493880" cy="6026040"/>
          </a:xfrm>
          <a:prstGeom prst="rect">
            <a:avLst/>
          </a:prstGeom>
          <a:ln w="0">
            <a:noFill/>
          </a:ln>
        </p:spPr>
      </p:pic>
      <p:grpSp>
        <p:nvGrpSpPr>
          <p:cNvPr id="114" name="Group 5"/>
          <p:cNvGrpSpPr/>
          <p:nvPr/>
        </p:nvGrpSpPr>
        <p:grpSpPr>
          <a:xfrm>
            <a:off x="1219320" y="152280"/>
            <a:ext cx="6247440" cy="6105240"/>
            <a:chOff x="1219320" y="152280"/>
            <a:chExt cx="6247440" cy="6105240"/>
          </a:xfrm>
        </p:grpSpPr>
        <p:sp>
          <p:nvSpPr>
            <p:cNvPr id="115" name="Text Box 6"/>
            <p:cNvSpPr/>
            <p:nvPr/>
          </p:nvSpPr>
          <p:spPr>
            <a:xfrm>
              <a:off x="1333440" y="152280"/>
              <a:ext cx="2139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llaries of head and arm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Text Box 7"/>
            <p:cNvSpPr/>
            <p:nvPr/>
          </p:nvSpPr>
          <p:spPr>
            <a:xfrm>
              <a:off x="5327280" y="5798520"/>
              <a:ext cx="21394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llaries of abdominal organs and leg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Text Box 8"/>
            <p:cNvSpPr/>
            <p:nvPr/>
          </p:nvSpPr>
          <p:spPr>
            <a:xfrm>
              <a:off x="2036880" y="4431600"/>
              <a:ext cx="1397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ferior vena cava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Text Box 9"/>
            <p:cNvSpPr/>
            <p:nvPr/>
          </p:nvSpPr>
          <p:spPr>
            <a:xfrm>
              <a:off x="2455200" y="3436920"/>
              <a:ext cx="1531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lmonary vei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Text Box 10"/>
            <p:cNvSpPr/>
            <p:nvPr/>
          </p:nvSpPr>
          <p:spPr>
            <a:xfrm>
              <a:off x="1219320" y="3738960"/>
              <a:ext cx="168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llaries of right lung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Text Box 11"/>
            <p:cNvSpPr/>
            <p:nvPr/>
          </p:nvSpPr>
          <p:spPr>
            <a:xfrm>
              <a:off x="1675800" y="1288800"/>
              <a:ext cx="1473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uperior vena cava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Text Box 12"/>
            <p:cNvSpPr/>
            <p:nvPr/>
          </p:nvSpPr>
          <p:spPr>
            <a:xfrm>
              <a:off x="4015080" y="1395000"/>
              <a:ext cx="1055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orta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Text Box 13"/>
            <p:cNvSpPr/>
            <p:nvPr/>
          </p:nvSpPr>
          <p:spPr>
            <a:xfrm>
              <a:off x="5232600" y="1306440"/>
              <a:ext cx="1568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lmonary artery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Text Box 14"/>
            <p:cNvSpPr/>
            <p:nvPr/>
          </p:nvSpPr>
          <p:spPr>
            <a:xfrm>
              <a:off x="5802840" y="3721320"/>
              <a:ext cx="14547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llaries of left lung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Your Blood Vessels:  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Pathway of Circulation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 types of vesse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rteri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apillari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ei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2T01:09:10Z</dcterms:created>
  <dc:creator>TEA</dc:creator>
  <dc:description/>
  <dc:language>en-US</dc:language>
  <cp:lastModifiedBy>jh</cp:lastModifiedBy>
  <dcterms:modified xsi:type="dcterms:W3CDTF">2010-09-25T19:38:33Z</dcterms:modified>
  <cp:revision>17</cp:revision>
  <dc:subject/>
  <dc:title>Circulatory System</dc:title>
</cp:coreProperties>
</file>